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2268-872F-492A-9F1D-5BB3DF8154B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6D92-5973-4B60-9CAE-CCE477C01A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220-18ED-4C4A-A7E8-0486CAD8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BDF4-CA15-46AD-ADE6-15F41E7B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C7A-6888-46EE-8791-7F51755E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081-13D0-444C-ACE4-6DD9F38A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620-C632-4A16-AB0B-8226D00C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829C-BE7C-4585-8831-F137B8EF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C18-B548-4D88-AE3D-1D6BBAA2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4CD-6C4D-4E91-8FB4-121D34CD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7645-3F8E-4223-87F2-61156224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F1E-0416-46D2-9E17-61D8D0EA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AFA-6593-4CA0-9455-547663F3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420-3CE9-42B7-A6C1-6FB76C67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BEF0-DEEC-4D41-BE05-5B55265E2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简体\我獻上自己 (主,我願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简体\我獻上自己 (主,我願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简体\我獻上自己 (主,我願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E:\圣洁活祭\简体\我獻上自己 (主,我願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E:\圣洁活祭\简体\我獻上自己 (主,我願)\我獻上自己 (主,我願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YC</dc:creator>
  <dc:description/>
  <dc:language>en-US</dc:language>
  <cp:lastModifiedBy>微软中国</cp:lastModifiedBy>
  <dcterms:modified xsi:type="dcterms:W3CDTF">2011-03-23T05:10:0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