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E9F5-1BB4-487D-94A0-3BD9C85C1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30AC-814E-4E57-9350-CE32BFDDF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232C-D261-4BF9-B96C-59F89107B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m_sanctua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m_sanctuar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4Z</dcterms:modified>
  <cp:revision>20</cp:revision>
  <dc:subject/>
  <dc:title>進入你的聖所</dc:title>
</cp:coreProperties>
</file>