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B840B-3750-43CA-A0B0-C120DE5E3A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05E40-B103-471F-B9D2-8F67511EA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F8E07-3008-4C75-BA96-349D48D6F3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76418-01EC-435D-8CAC-11D29D2FC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謝謝祢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耶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m_thankyou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謝謝祢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耶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m_thankyou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謝謝祢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耶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m_thankyou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50:45Z</dcterms:modified>
  <cp:revision>64</cp:revision>
  <dc:subject/>
  <dc:title>謝謝祢, 耶穌</dc:title>
</cp:coreProperties>
</file>