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9998-24F9-4C20-9BEE-7886A4A32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2401-0F7D-45BE-9E9C-DBD4F48D6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7320-139D-4A71-9021-617920908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9A56-A5A7-4779-8D74-94518922D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_psalm8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m_psalm8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m_psalm8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13Z</dcterms:modified>
  <cp:revision>71</cp:revision>
  <dc:subject/>
  <dc:title>祢的榮耀彰顯於天</dc:title>
</cp:coreProperties>
</file>