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7A82-018B-478E-B7A8-ED06E3B92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0D9D-9A7A-477E-93B7-F3DF45ED4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6249-494C-433F-99F2-58B77CF4C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C04F-9EEB-480C-9AE8-3BDAB3F7A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D58F-1474-4F06-9396-6107F1F8B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beautifu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_beautiful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_beautifu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_beautiful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03Z</dcterms:modified>
  <cp:revision>35</cp:revision>
  <dc:subject/>
  <dc:title>你比這一切更美麗</dc:title>
</cp:coreProperties>
</file>