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D891-7233-4038-926F-13AC1CF43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F4E0-A398-4AB8-97ED-99841B9F8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C77F-DFE9-4FBE-BC2A-EA3683CE1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660A-A2E7-40A9-8D11-93B4E75A9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2E0A-AE9A-491D-9B55-A9933739C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片刻的安寧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m_momen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片刻的安寧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_momen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片刻的安寧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m_moment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片刻的安寧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_momen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17Z</dcterms:modified>
  <cp:revision>47</cp:revision>
  <dc:subject/>
  <dc:title>片刻的安寧</dc:title>
</cp:coreProperties>
</file>