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8F2E-BF26-4526-9642-68A8E185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F002-C0CE-4F4E-8A34-737F16F0C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3086-39B0-437F-A83F-5BA4F7B6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3Z</dcterms:modified>
  <cp:revision>38</cp:revision>
  <dc:subject/>
  <dc:title>榮耀都歸神羔羊</dc:title>
</cp:coreProperties>
</file>