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5A85-ADA1-437F-BF25-F0E2D74CD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D028-DDA5-4717-BCCB-3C890B8B1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AEEF-50B9-4444-8E7D-5E72CD75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40Z</dcterms:modified>
  <cp:revision>42</cp:revision>
  <dc:subject/>
  <dc:title>把握今天</dc:title>
</cp:coreProperties>
</file>