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E3B83-3A2B-4303-B7ED-3FA250AACA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A69E3-9A8E-4888-8946-F25A84E8F1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1FB4D-DF84-42E0-8273-A6FFAE3F48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5DECB-5C29-4A15-AF22-ABFDE88370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我的最愛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2" descr="m_greatestlove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我的最愛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m_greatestlove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我的最愛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m_greatestlove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5T20:15:44Z</dcterms:created>
  <dc:creator/>
  <dc:description/>
  <dc:language>en-US</dc:language>
  <cp:lastModifiedBy>微软用户</cp:lastModifiedBy>
  <dcterms:modified xsi:type="dcterms:W3CDTF">2010-06-13T14:51:29Z</dcterms:modified>
  <cp:revision>52</cp:revision>
  <dc:subject/>
  <dc:title>我的最愛</dc:title>
</cp:coreProperties>
</file>