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CF34-E828-4C07-8BBE-47D6FE51F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CD57-597F-4C5F-B43A-03EE98504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ADF6-FEC2-4995-9DEE-1412F298E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Are My Favorite 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favorit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Are My Favorite 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favorit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37Z</dcterms:modified>
  <cp:revision>31</cp:revision>
  <dc:subject/>
  <dc:title>You Are My Favorite</dc:title>
</cp:coreProperties>
</file>