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428-7E76-420F-B1CF-BD6AF09F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915-9CB2-4E4B-BD80-87843BF2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0A4-93BA-4125-9779-B08E73AC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4F2-4BB4-4503-8BF5-CA7A14EC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B2C-298A-4DD2-9CA0-1452363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A09-85C2-465B-9DE3-33144ED8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B37-1D61-46D3-B043-C935B282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1F1-E9C6-4C1F-99F5-0694047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D34-0423-404B-9A79-068B98DF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864-C9AC-430B-93E4-20D28F2B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E53-5D9B-4BE4-9723-E0F51CD8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2D8-A84A-4ABB-B2C5-BD4E29EC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215-FD0B-4CCF-B12E-440DCF4372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进入你的圣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进入你的圣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进入你的圣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33Z</dcterms:modified>
  <cp:revision>5</cp:revision>
  <dc:subject/>
  <dc:title>幻灯片 1</dc:title>
</cp:coreProperties>
</file>