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E87-4C0D-4359-A9E0-7FB1246F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09F-337E-4A0A-9073-68700C1C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C5F-3AE0-43A8-873C-76B32AA4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78A-D1BE-4F1C-A152-A53FEAA9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9AB-F002-4DEE-B951-CEAB1B68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3B2-CDDB-4707-8648-4780FD8C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073-D96A-4B75-809B-0C0A0635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B70-5859-4407-886A-247B6287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5BC-B716-4973-9BDD-1DD01E15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56A-5E45-4C66-A0B0-724C742A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BABF-782F-4E87-A354-E6AA439D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420-C7F9-45E3-840C-BC93869E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B35D-A32C-446B-A5CD-A65C764234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谢谢你，耶稣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谢谢你，耶稣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谢谢你，耶稣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谢谢你，耶稣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4:16Z</dcterms:modified>
  <cp:revision>4</cp:revision>
  <dc:subject/>
  <dc:title>幻灯片 1</dc:title>
</cp:coreProperties>
</file>