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7C8D-9301-4072-9BF0-62F8F737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FA54-6818-47DC-84CF-55B25487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9C22-8BFE-445A-AEFB-13286E99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046-AFA1-4809-8DA5-854B0A4E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95AE-808E-4E0E-8BE4-39A68A59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CB0-5F33-4917-B40B-C62C75AE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33B9-0D63-4F01-892D-E56E9F5E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017-75DD-4333-856A-BB958F7F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7CDE-D3BF-4CE0-A70B-CC498E75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63D-F2D2-4BBC-968B-4086B475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F710-4E90-4F7C-881C-F5FBC674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8DA-E68A-48DF-BCD6-10EBAD10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56D5-4F3B-49BB-8B6B-DA4465C530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荣耀彰显于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你的荣耀彰显于天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荣耀彰显于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你的荣耀彰显于天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荣耀彰显于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你的荣耀彰显于天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3:11Z</dcterms:modified>
  <cp:revision>4</cp:revision>
  <dc:subject/>
  <dc:title>幻灯片 1</dc:title>
</cp:coreProperties>
</file>