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7E-CFCF-4805-92BF-40DEFAF0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95E-3C30-4180-A165-097E6A9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DC7-3A4E-40EF-B532-AA57F3AA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F07-852C-43D8-9A88-E7BEA6C8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56A-A7B4-4F90-937D-AC91415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645-EB60-40A6-979C-52BE3736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9E4-9F37-412E-9C61-9D767B2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837-AA2F-465C-A4F9-2B35206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B6E-6712-48CD-9796-867974C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863-CEF1-4D94-B3AC-B5F715F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249-E2DD-4853-B67F-057873B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199-DE13-4F16-BDDF-2E24155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7718-E8A7-4931-AFEC-FD8536B0BF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比这一切更美丽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比这一切更美丽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比这一切更美丽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比这一切更美丽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你比这一切更美丽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5:18Z</dcterms:modified>
  <cp:revision>4</cp:revision>
  <dc:subject/>
  <dc:title>幻灯片 1</dc:title>
</cp:coreProperties>
</file>