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C34-4BDB-4960-A73B-F5C92F82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714-79E8-4931-B1AA-C3DB17EF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707-B369-4F56-8445-BF64FDB6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9B2-855D-447E-9D96-E18FD831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FD1-5CD1-48A8-AB4F-13F972AA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6BE-CAA9-4A5A-B7AE-856501CC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830-9AC7-4008-952B-8080C8E0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B97-42CB-4A1F-84B6-B18BCB68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3FD-DBAE-4B48-A90F-A469A4E9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F5D-7728-4E2E-A6A2-793744FE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CB2-2F67-4D4E-95AE-504E555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81D-CE3F-47A8-BBA0-1372E443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B4AF-8F21-4E05-95B3-18F257669A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片刻的安宁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片刻的安宁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片刻的安宁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片刻的安宁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片刻的安宁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56Z</dcterms:modified>
  <cp:revision>4</cp:revision>
  <dc:subject/>
  <dc:title>幻灯片 1</dc:title>
</cp:coreProperties>
</file>