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B05-F7B6-4472-B446-5B39790F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BB6-31D1-47BD-A567-0A374030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B9D-B9C3-4E1C-9278-E2AF861E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D71-9CA5-4C3C-93A1-62CC6E75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E19-43FE-41CB-AB8E-196F31B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FAE-4D27-4ABD-ADD8-D5FE7D4A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52B-41D9-42C6-BC84-CA3F459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C7C-1FA5-466A-BD78-1974737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751-B836-4496-ADCC-7574FE42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531-88F8-4813-88A1-8E29196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33C-9E7D-4C07-A56E-4B0B8E9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1BA-D5C3-4BAE-A76F-D294A61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DA9-EF4D-499D-B533-19DF7BC5E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永远\永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永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永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永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37Z</dcterms:modified>
  <cp:revision>5</cp:revision>
  <dc:subject/>
  <dc:title>幻灯片 1</dc:title>
</cp:coreProperties>
</file>