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8AAD-2DE1-4924-AE9C-7EB098D6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93B6-2BB6-43EF-A983-E58C4883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6465-9810-4885-A01B-8B5F893D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1FE4-F313-411D-B0A5-2816EE66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85DF-ECAB-4F34-8CDA-43E4BE18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A04-0B02-4F4B-920F-39BE6FEA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A793-AFC1-4BB1-8E10-2FE6C0D9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9238-8BDD-4D49-831D-6921F9AA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A5D-0AA3-435B-830E-08208923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59C3-1FCD-47C3-BA47-C294E1F5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AF8B-AD05-430F-A22A-440ECF78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6FE7-B3BA-4079-AEBC-566EC21B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76BC-6B04-4B28-8280-95830271C7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荣耀都归神羔羊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荣耀都归神羔羊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荣耀都归神羔羊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荣耀都归神羔羊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0:19Z</dcterms:modified>
  <cp:revision>5</cp:revision>
  <dc:subject/>
  <dc:title>幻灯片 1</dc:title>
</cp:coreProperties>
</file>