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3B6-D4AA-4142-B7F5-F669FA8B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1511-782F-482B-BCD8-8DC18B31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6E97-53F3-46D5-B064-92D29260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77F-7D4C-4E25-A49C-95807981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AC31-7F82-4449-8623-A51DD455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7E24-8DC5-4E3E-A738-516EA1E6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80B1-C34F-47B2-B86B-C2936A54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C4E9-31B1-40EA-94A8-8C015C67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9FAC-2DA3-40BF-9128-6245B4B0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4F6A-DB11-4A82-830B-22BA42AC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7408-E986-442B-B5D6-52305BAD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465-860B-44DA-881E-A89D58DE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6D9B-E73C-41C7-A3A5-00B652949E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把握今天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把握今天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4:53:36Z</dcterms:modified>
  <cp:revision>4</cp:revision>
  <dc:subject/>
  <dc:title>幻灯片 1</dc:title>
</cp:coreProperties>
</file>