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511-1EF0-4DA2-8E11-72453758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9C5-5739-4ED7-8AFD-23F1DAA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0EF-31E5-4EEE-98D1-C93E1539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888-EB89-43A2-A25F-DFAAAC07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752-9C97-47B7-B076-EEDE4AFE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243-C629-487C-8B58-96F1A7E8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325-0581-457F-BE5F-55CBC082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CEE-77B4-49E2-B5F0-6F6DA079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B25-7827-41E8-870A-E7D1DF2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AD8-26D7-4291-B886-4B140036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376-30AF-4F4D-B167-C343304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EC4-3402-4BA3-B3F0-E5292BE9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C1B-C1FE-4240-A043-C16C88DF31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最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最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最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最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8:18Z</dcterms:modified>
  <cp:revision>4</cp:revision>
  <dc:subject/>
  <dc:title>幻灯片 1</dc:title>
</cp:coreProperties>
</file>