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1B20A-3AF6-419E-B29D-D06214B77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51200-26EE-46D7-9AB0-6495E88AF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56469-D6A4-488C-8FB9-4CC1F8BE7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1D121-8A65-4ACB-83F2-3F521E7CC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9AA02-F128-4154-B549-E48255C3A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24933-0916-4C69-865B-879509BB6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C2179-55F6-49CD-AA50-5F961A1E5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57DB2-807A-4E3A-9103-C270EE8A1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07BD2-7D3C-45FB-B419-A6516223B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6D751-849B-402E-A2C9-6408DBF97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C4DEB-1E20-46E0-BB26-0B9272FFF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8D24D-5919-46FF-8E6D-8C42EFBDC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430C2-17EB-4011-838E-C3A14CC32FE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我的救主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1/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1" descr="E:\music\诗歌\PPT\2\永远\我的救主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我的救主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/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1" descr="E:\music\诗歌\PPT\2\永远\我的救主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我的救主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3/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1" descr="E:\music\诗歌\PPT\2\永远\我的救主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9T04:47:40Z</dcterms:created>
  <dc:creator>YYC</dc:creator>
  <dc:description/>
  <dc:language>en-US</dc:language>
  <cp:lastModifiedBy>微软用户</cp:lastModifiedBy>
  <dcterms:modified xsi:type="dcterms:W3CDTF">2010-06-13T15:02:03Z</dcterms:modified>
  <cp:revision>5</cp:revision>
  <dc:subject/>
  <dc:title>幻灯片 1</dc:title>
</cp:coreProperties>
</file>