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72A-1408-4930-BBE0-0175422A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AA3-962D-489E-B3D8-2A382471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865-2382-4B7B-9C50-8C447F2D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AEC-39F7-45B3-9EEB-96632FB7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E1B-F91E-4421-8C3E-1D02EE09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96B-B8C4-4C64-A616-AC4C190A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248-57CF-47F5-8B10-60EDA0CB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3B3-3E76-4787-AE5B-169AE793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902-CD4D-4F69-A7EF-6E3C039A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35D-B3EF-4538-8096-46C95971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E92-D272-421E-8146-CAE5FDE9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35F-8339-4049-AA93-6DCA09C0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CB84-191C-4BB3-ABA1-DAD8E4E3B2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们来赞美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们来赞美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们来赞美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我们来赞美主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4:33Z</dcterms:modified>
  <cp:revision>4</cp:revision>
  <dc:subject/>
  <dc:title>幻灯片 1</dc:title>
</cp:coreProperties>
</file>