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6B19-5F32-42D8-B865-0758F4C3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BE7-C80D-4D91-AAA2-E8BF9C04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9FA-646E-41A1-B685-68D2EBA3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7D1-F91D-4095-A321-2E1A227F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50C-FC31-44B1-A534-BE611D03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9F5-5004-473D-8536-2E275B98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34D-5A03-40DD-B93C-CB1EF093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FD4-8D68-42AB-A12F-547B629C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3F1-4995-4CF8-9945-903A6118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4DF-C1BF-4C6F-BF5E-5FE3B340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42C-D9B3-4D8C-B72E-CAEDDEB5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825-3FD4-4462-823A-585B961C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11E9-CFE7-4B5B-AC97-F45B9AD855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主耶稣，我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主耶稣，我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主耶稣，我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耶稣，我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主耶稣，我爱你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7:53Z</dcterms:modified>
  <cp:revision>4</cp:revision>
  <dc:subject/>
  <dc:title>幻灯片 1</dc:title>
</cp:coreProperties>
</file>