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C32-A568-4983-AF4B-76112EB4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722-ADF6-469B-A681-3A661BA0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2FB-F5DC-4A43-A37F-2EA644EF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4BE-F812-46D4-9D9B-4F763087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5B7-538E-4C71-BFB7-048EA689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6A5-C074-4E6F-822C-0EFF096F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FD1-3AE6-4F29-BEF4-C9283D96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0FC-95FF-4754-8562-4B9671AA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876-2C99-4970-A083-FFCBC2AF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949-410C-4E53-A8C2-C2D6B610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870-AFB1-467F-B105-A92E197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95A-89DE-44BC-9A07-C1183C25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69A0-BB21-48D0-90B9-70A084DD3A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my favorite  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You Are My Favorite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my favortie 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You Are My Favorite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02Z</dcterms:modified>
  <cp:revision>4</cp:revision>
  <dc:subject/>
  <dc:title>幻灯片 1</dc:title>
</cp:coreProperties>
</file>