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C65-4957-4304-A10D-B89CB560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508-B53E-4727-A533-CF693956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600-37B0-42AF-BDDB-01488C0F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BCC-0EAD-406B-AFD8-FE90D1A6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6BA-3920-444B-9C00-D7E7BD55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6BF-EAC1-4ABB-A05F-165724EF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DCE-94BD-4C1C-9164-8AA430D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476-7DC2-48F2-B412-C9CB4488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67E-576F-4730-B456-5CDE899A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466-FACF-4BDD-B901-0E31C651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DF0-7A47-437F-B3AA-18C8C2E6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F42-41B7-4903-BF24-BED78AB3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45068D3-20F0-4032-98F3-934D1A9DBF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開我眼睛 看見祢就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將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  <a:ea typeface="宋体"/>
              </a:rPr>
              <a:t>我的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愛完全 讓我心一無畏懼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837000"/>
            <a:ext cx="9143640" cy="53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轉向祢 祢已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親近祢 祢就與我親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尚未求告 祢已應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使我喜樂滿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愛既完全 將一切懼怕除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264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36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