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14A-0D9E-4BCF-8F03-2ACFEC99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44B-AEA3-46E7-8D97-2D959DA9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579-5D71-4130-9761-54EC385E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84F-9AB6-47DE-ABE7-EE2D87CC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780-E332-46D3-993C-6FE9E75D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BCC-E10D-402B-99D8-88E101A3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449-6665-4138-8BA1-3E032024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303-D252-4E57-B1FF-DDF01CD5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DA0-E0FF-465D-AF30-BD2AFCCD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AC9-D7CF-4DCB-9412-471A3769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CA3-BF9C-4DE9-9258-0BDAACEE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422-35B9-4358-B5D0-D3790ED5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7C999BF-74FD-41E1-9292-8CBEBC7D73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720" y="90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9000" spc="-1" strike="noStrike">
                <a:solidFill>
                  <a:srgbClr val="000000"/>
                </a:solidFill>
                <a:latin typeface="DFKai-SB"/>
                <a:ea typeface="DFKai-SB"/>
              </a:rPr>
              <a:t>新郎的呼喚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35640" y="908640"/>
            <a:ext cx="914220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我一同坐在天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我行走在水面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我形影不離 心心相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35640" y="908640"/>
            <a:ext cx="914220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一同坐在天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行走在水面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形影不離 心心相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9360" y="837000"/>
            <a:ext cx="913428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 啊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~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一同坐在天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行走在水面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35640" y="548640"/>
            <a:ext cx="91850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願意 主 我願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同去 永不分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在哪裏 願我也在那裏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不分離 永不分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  <Words>230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9:58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