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C70-89C5-4C1F-BDC4-E3E58125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724-4CFF-418A-8005-00AB6AD9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0A4-5074-4529-9910-832E3E8E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412-5A6F-4647-8531-3E1A0960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EFE-B3A7-4DD0-8F5E-4EA05C2D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5C4-2336-4CE8-A15F-C4211892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7EF-7CF5-40A8-B688-D6B1BC92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664-9400-4644-BF43-4C831B38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38B-33C3-4069-940E-B57CECE7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06D-5667-4145-81D6-930A4D0D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767-F76D-43D2-A221-35B8B7DE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E99-AD17-47EA-86EA-F11E29B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2F2F3A1-0C30-4417-B20C-46CC53C803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" y="2493000"/>
            <a:ext cx="9150120" cy="2662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27360" y="908640"/>
            <a:ext cx="91047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5640" y="2467080"/>
            <a:ext cx="914292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914400"/>
            <a:ext cx="914364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14400"/>
            <a:ext cx="914364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81000"/>
            <a:ext cx="91436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4"/>
          <p:cNvSpPr/>
          <p:nvPr/>
        </p:nvSpPr>
        <p:spPr>
          <a:xfrm>
            <a:off x="0" y="9144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舒拉密女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  <Words>351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22Z</dcterms:modified>
  <cp:revision>14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