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834-AE02-432F-8347-3110709E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F813-DE86-4186-881F-E960BCFE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4A1B-3317-4EC9-8883-EC99E5B7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C79F-F7C7-4BDE-9AC2-A9A20EEF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1415-1906-4103-A596-F305626B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326-8944-4253-A5EE-B35FDDBE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C53-3476-4E0F-8C47-B1DEC600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FB3-1DD9-4D5A-B8D4-E733BE0E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C8E-FA0B-4119-BECD-937CD7B3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8C3-ADCD-420A-B113-2C0D21A0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6D5-3ADD-4E7C-9714-9F9C0925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AA5-0E0B-4E79-997A-4A29328F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03B7A17-A627-44E4-AB19-38D207E2A0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0" y="548640"/>
            <a:ext cx="91584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0" y="2493000"/>
            <a:ext cx="91429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 # 719164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0" y="188640"/>
            <a:ext cx="9143640" cy="57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諾亞的日子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人們照常吃喝嫁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直到洪水把他們都冲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約拿的日子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人們分不清對和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直到聽見神僕人的呼籲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副标题 7"/>
          <p:cNvSpPr/>
          <p:nvPr/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103824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沒有人傳</a:t>
            </a: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怎能聽見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沒有聽見 怎能相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怎能求告主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前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7"/>
          <p:cNvSpPr/>
          <p:nvPr/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981000"/>
            <a:ext cx="914364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主啊膏抹我 使用我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主啊膏抹我 使用我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副标题 7"/>
          <p:cNvSpPr/>
          <p:nvPr/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6" name="文本框 4"/>
          <p:cNvSpPr/>
          <p:nvPr/>
        </p:nvSpPr>
        <p:spPr>
          <a:xfrm>
            <a:off x="0" y="1038240"/>
            <a:ext cx="914364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時候將到 現在就是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死人要聽見神兒子的聲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就要活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副标题 7"/>
          <p:cNvSpPr/>
          <p:nvPr/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  <Words>239</Words>
  <Paragraphs>5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8:00Z</dcterms:modified>
  <cp:revision>8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