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4C77-CF9A-4B06-A4E8-9AECB4860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1FC9-DFE4-48D0-835B-4ABBAC059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7004-AA3E-46C8-8066-CD253C528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F35A-3FDF-4C50-B428-1BD3E17C3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CB90-D75C-4B73-BE6B-7D1136166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D2C6-73B6-41F2-8E14-CEA76588D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082F-F676-44DB-A297-C207F38E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D5A5-046A-4C7B-A1AD-704555F72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ED4A-B4ED-44F8-8013-C221F845B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14BC-432B-4D94-ADAA-6253E365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5065-3F3A-48A2-A11B-6B19138B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07DE-4024-4B31-9156-83AB1186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7156C2DD-DB00-4973-9A4D-3B2D89A2954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8000" y="6453360"/>
            <a:ext cx="75960" cy="156600"/>
          </a:xfrm>
          <a:prstGeom prst="rect">
            <a:avLst/>
          </a:prstGeom>
          <a:solidFill>
            <a:srgbClr val="8c7549"/>
          </a:solidFill>
          <a:ln w="9360">
            <a:solidFill>
              <a:srgbClr val="90784a"/>
            </a:solidFill>
            <a:round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1" lang="en-US" sz="2000" spc="-1" strike="noStrike">
                <a:solidFill>
                  <a:srgbClr val="8c7549"/>
                </a:solidFill>
                <a:latin typeface="楷体"/>
                <a:ea typeface="楷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1"/>
          <p:cNvSpPr/>
          <p:nvPr/>
        </p:nvSpPr>
        <p:spPr>
          <a:xfrm>
            <a:off x="0" y="548640"/>
            <a:ext cx="9142920" cy="18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1000" spc="-1" strike="noStrike">
                <a:solidFill>
                  <a:srgbClr val="000000"/>
                </a:solidFill>
                <a:latin typeface="DFKai-SB"/>
                <a:ea typeface="DFKai-SB"/>
              </a:rPr>
              <a:t>即或不然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3"/>
          <p:cNvSpPr/>
          <p:nvPr/>
        </p:nvSpPr>
        <p:spPr>
          <a:xfrm>
            <a:off x="0" y="2133000"/>
            <a:ext cx="9143640" cy="31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曲：林婉容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CCLI#719164</a:t>
            </a: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5"/>
          <p:cNvSpPr/>
          <p:nvPr/>
        </p:nvSpPr>
        <p:spPr>
          <a:xfrm>
            <a:off x="366480" y="6550560"/>
            <a:ext cx="304776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5" name="副标题 3074"/>
          <p:cNvSpPr/>
          <p:nvPr/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49" name="文本框 3"/>
          <p:cNvSpPr/>
          <p:nvPr/>
        </p:nvSpPr>
        <p:spPr>
          <a:xfrm>
            <a:off x="7020720" y="6382440"/>
            <a:ext cx="2122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即或不然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4"/>
          <p:cNvSpPr/>
          <p:nvPr/>
        </p:nvSpPr>
        <p:spPr>
          <a:xfrm>
            <a:off x="21600" y="548640"/>
            <a:ext cx="9142200" cy="57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有誰能像我的神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祂自有永有 至聖至尊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誰能尋見 祂的蹤跡 噢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有誰能像我的神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祂作為完全 良善正直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在祂裏面 毫無不義 噢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4"/>
          <p:cNvSpPr/>
          <p:nvPr/>
        </p:nvSpPr>
        <p:spPr>
          <a:xfrm>
            <a:off x="9360" y="837000"/>
            <a:ext cx="913428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烈火窯中 我仍要相信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我的神必拯救我脫離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即或不然 我仍要尊榮祂聖名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尊榮祂聖名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5"/>
          <p:cNvSpPr/>
          <p:nvPr/>
        </p:nvSpPr>
        <p:spPr>
          <a:xfrm>
            <a:off x="0" y="6361560"/>
            <a:ext cx="1569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副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3"/>
          <p:cNvSpPr/>
          <p:nvPr/>
        </p:nvSpPr>
        <p:spPr>
          <a:xfrm>
            <a:off x="7020720" y="6382440"/>
            <a:ext cx="2122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即或不然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副标题 3074"/>
          <p:cNvSpPr/>
          <p:nvPr/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59" name="文本框 4"/>
          <p:cNvSpPr/>
          <p:nvPr/>
        </p:nvSpPr>
        <p:spPr>
          <a:xfrm>
            <a:off x="0" y="548640"/>
            <a:ext cx="9163800" cy="57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有誰能像我的神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祂說有就有 命立就立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誰能抵擋 祂的旨意 噢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有誰能像我的神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祂作為完全 良善正直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在祂裏面 毫無不義 噢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3"/>
          <p:cNvSpPr/>
          <p:nvPr/>
        </p:nvSpPr>
        <p:spPr>
          <a:xfrm>
            <a:off x="7020720" y="6382440"/>
            <a:ext cx="2122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即或不然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3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副标题 3074"/>
          <p:cNvSpPr/>
          <p:nvPr/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4"/>
          <p:cNvSpPr/>
          <p:nvPr/>
        </p:nvSpPr>
        <p:spPr>
          <a:xfrm>
            <a:off x="0" y="908640"/>
            <a:ext cx="91436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我的神 祂不休息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祂愛不離不棄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我的神 永不改變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信實直到永遠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5"/>
          <p:cNvSpPr/>
          <p:nvPr/>
        </p:nvSpPr>
        <p:spPr>
          <a:xfrm>
            <a:off x="0" y="6382440"/>
            <a:ext cx="208044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橋段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3"/>
          <p:cNvSpPr/>
          <p:nvPr/>
        </p:nvSpPr>
        <p:spPr>
          <a:xfrm>
            <a:off x="7020720" y="6382440"/>
            <a:ext cx="2122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即或不然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4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副标题 3074"/>
          <p:cNvSpPr/>
          <p:nvPr/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  <Words>254</Words>
  <Paragraphs>6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17:20Z</dcterms:modified>
  <cp:revision>13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PresentationFormat">
    <vt:lpwstr>On-screen Show (4:3)</vt:lpwstr>
  </property>
  <property fmtid="{D5CDD505-2E9C-101B-9397-08002B2CF9AE}" pid="5" name="Slides">
    <vt:r8>5</vt:r8>
  </property>
</Properties>
</file>