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185-2D0D-43FE-BB88-E9EB862A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BA0-4622-41A8-93D3-11AC57A7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362-C319-4DFB-8F34-D75E6315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EF5-4597-4684-AD4C-FA003074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AFD-2AF6-44A6-9FFF-4E85F06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E12-10CF-4D67-BA6C-FF23A356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223-3822-4884-81DB-D2ECFA04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A05-40D5-4131-BAB8-2832125A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FF9-9402-4CA0-9506-1EA71A69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211-A4A5-4877-877F-6CEB068C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F7E-164B-4762-B11A-084EB9D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B1F-B9A6-48AC-81A6-0C68A23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264CC49-0878-4527-B1E6-BF761C4EAE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908640"/>
            <a:ext cx="91436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611080"/>
            <a:ext cx="85881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藍寶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-1440" y="188640"/>
            <a:ext cx="91454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創造宇宙萬物的神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按祂形象造男造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賜福他們權柄治理這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生命氣息從祢而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疆界年日為祢所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萬物受造彰顯榮耀祢的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144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順服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榮耀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敬拜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遵行祢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853000"/>
            <a:ext cx="914364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264360" y="641160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0" y="90864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阿拉法 俄梅戛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稱頌祢名不止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統管全地永恆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197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14Z</dcterms:modified>
  <cp:revision>11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