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B859-70C9-46D3-8990-FE9AF35FB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EB8A-1CB4-4182-B178-AE8B8214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9638-CF38-42C8-AFFD-E8E7C853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6302-2DA9-4B8B-9DCE-F48C9A433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5D5A-311D-4ACC-8FD5-F0F7F43A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9BFE-1FB3-42FA-84BF-69A65C31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A2DE-16EA-4167-8B28-C6B986E3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4CD4-1069-4739-B86D-F0A38583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0921-BD89-4869-94EE-95FF9D62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C005-6FE3-449D-9316-336488B4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0178-0B5F-4372-9A49-C9F527BB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3B69-268E-4A31-9739-204C58C6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44FD827-1CFB-4E03-A7D7-7844025D4D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3240" y="692640"/>
            <a:ext cx="914364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DFKai-SB"/>
                <a:ea typeface="DFKai-SB"/>
              </a:rPr>
              <a:t>亙古的愛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0" y="2201400"/>
            <a:ext cx="9146880" cy="30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4"/>
          <p:cNvSpPr/>
          <p:nvPr/>
        </p:nvSpPr>
        <p:spPr>
          <a:xfrm>
            <a:off x="0" y="5419800"/>
            <a:ext cx="91436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0" y="5334120"/>
            <a:ext cx="9143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宋体"/>
              </a:rPr>
              <a:t>中文歌詞中的「他」汎指人類，包括了亞當和夏娃，男人和女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1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7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4"/>
          <p:cNvSpPr/>
          <p:nvPr/>
        </p:nvSpPr>
        <p:spPr>
          <a:xfrm>
            <a:off x="-45000" y="972360"/>
            <a:ext cx="9211680" cy="40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許久以前祂有個夢想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為自己造了一個新娘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將他安置浩瀚的宇宙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美麗的地球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20" y="6382440"/>
            <a:ext cx="913788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4"/>
          <p:cNvSpPr/>
          <p:nvPr/>
        </p:nvSpPr>
        <p:spPr>
          <a:xfrm>
            <a:off x="720" y="940320"/>
            <a:ext cx="915300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天起涼風晨昏或日落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他倆同行在伊甸園中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直到有天他聽信讒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天人永隔絕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7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4"/>
          <p:cNvSpPr/>
          <p:nvPr/>
        </p:nvSpPr>
        <p:spPr>
          <a:xfrm>
            <a:off x="0" y="189360"/>
            <a:ext cx="9143640" cy="55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噢 但祂心深愛著他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怎能就此遺忘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日夜思念的新娘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說我要下到他那裡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用血換他生命 用水將他洗淨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他必永遠歸我為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7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4"/>
          <p:cNvSpPr/>
          <p:nvPr/>
        </p:nvSpPr>
        <p:spPr>
          <a:xfrm>
            <a:off x="0" y="981000"/>
            <a:ext cx="914364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如此的愛將石心融化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痛悔的心再次屬於祂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靈魂甦醒他甘心樂意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跟隨祂到底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7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4"/>
          <p:cNvSpPr/>
          <p:nvPr/>
        </p:nvSpPr>
        <p:spPr>
          <a:xfrm>
            <a:off x="-45000" y="981000"/>
            <a:ext cx="918864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再過不久 號角要響起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榮耀新郎 要駕雲降臨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要接他回到父家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永不再分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5/7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4"/>
          <p:cNvSpPr/>
          <p:nvPr/>
        </p:nvSpPr>
        <p:spPr>
          <a:xfrm>
            <a:off x="720" y="189360"/>
            <a:ext cx="9142920" cy="56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噢 因祂心深愛著他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不能就此遺忘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日夜思念的新娘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說我要下到他那裡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用血換他生命 用水將他洗淨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他必永遠歸我為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6/7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4"/>
          <p:cNvSpPr/>
          <p:nvPr/>
        </p:nvSpPr>
        <p:spPr>
          <a:xfrm>
            <a:off x="-17640" y="981000"/>
            <a:ext cx="918792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在那美麗的新天新地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再無死亡 也沒有哭泣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羔羊和新婦從此快樂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永遠在一起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5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7/7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  <Words>447</Words>
  <Paragraphs>10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0:51Z</dcterms:modified>
  <cp:revision>12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8</vt:r8>
  </property>
</Properties>
</file>