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481B-AE6A-46F0-90FB-946FAD543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64E4-9430-47BA-A238-9941868D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F592-6A18-461C-8BF2-7A7770901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2EE8-82C0-487B-8C58-E139F53DC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B4EF-2239-4792-888E-7BA7E30C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2064-DFA5-4D84-90C5-49DF7413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ADD0-8692-40E9-9F7C-70A62A98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413C-FDC7-4F22-8286-FF612CA4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CF8F-BC1B-4FBF-82F7-7B1A6504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2C65-514C-4731-A6C2-1DE35D97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0A6D-9E6A-45EA-8FEC-49C18738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F0DF-2AF3-45AB-A22E-70D987D8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DC05-673A-42AA-ACC7-98928C6000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哈利路亚（袮真实奇妙）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Administrator\桌面\再次将我更新\简体PPT\哈利路亚（袮真实奇妙）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哈利路亚（袮真实奇妙）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C:\Documents and Settings\Administrator\桌面\再次将我更新\简体PPT\哈利路亚（袮真实奇妙）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0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