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7CFE-24B0-4810-A1E5-76C367E3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6B8-B675-4807-8753-A20AE6F0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277-BF8A-4B21-AFED-EF7EA1A0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770-8D02-490B-AF59-03BCC576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6BD-0B13-43AE-9D8C-EADF0AEF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AAC-7373-40D9-8732-F6D4D1E9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D4F-5F2A-4E4C-9CD7-BA70CB6F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424-F8EE-41B7-BB0A-11E3E21B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D13-83EA-4E05-9D74-9841A531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276-68A4-46F7-9939-39F18A91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FF8-6BF3-483B-B91C-C3795DE4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C38-7526-4160-A3E6-2B0DE432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3EFC-04C5-4D1C-B54C-018F86285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主啊,誰人親像祢\繁体\3. 耶穌愛我,我知影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主啊,誰人親像祢\繁体\3. 耶穌愛我,我知影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繁体\3. 耶穌愛我,我知影(台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Documents and Settings\Administrator\桌面\主啊,誰人親像祢\繁体\3. 耶穌愛我,我知影(台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0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