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BDA5-24DD-406B-9F94-D22C2A53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9015-CF36-483A-8C4A-2A656382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B97E-2349-4005-9437-FB6505C65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AB45-23D9-48A8-896A-372002C6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BDB0-0340-46CE-9933-D65CA35B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57AA-4611-4E3E-AB05-F6D7FE0B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D4A4-849D-4579-A9AC-AA6DA680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74D6-7DBC-45DD-A2AF-8791FFC1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F9C3-0C50-45E2-87EA-6DCBB0AB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F8D3-89A2-4EEC-BE08-10CE84CB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07BD-9782-4A5F-AD56-65DDAD33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69F3-6211-41B2-8DFA-19CBBD94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1108-F492-4ADA-AC49-237189B981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诗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篇（台语）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诗篇23篇（台语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诗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篇（台语）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诗篇23篇（台语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诗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篇（台语）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愿你的国降临\诗篇23篇（台语）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25:42Z</dcterms:modified>
  <cp:revision>5</cp:revision>
  <dc:subject/>
  <dc:title>幻灯片 1</dc:title>
</cp:coreProperties>
</file>