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EFC-F0B9-4BA8-96CC-E24672BB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3721-48DC-4E9D-8407-28C204AA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D2DE-E8A6-418F-8563-00A22F91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B77-7F08-4F23-AA75-84BAA6E3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E26-82FE-4105-9DE1-FE401421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F6E-4CC6-4CC3-BA33-FCBC9AB0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311-A0B4-45B0-9BCB-D927E199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393-4C59-43BB-A1D7-13567684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2A71-CF8B-428F-98BA-FB3497FD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9F25-3C9F-4AE7-99B8-F06E3597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49B-AA97-464F-88F0-43D52669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2928-47EC-43B0-A017-AEC33876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ED7F-EEA2-4C64-B4BC-134FBD898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主啊,誰人親像祢\简体\3. 耶稣爱我,我知影(台语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Administrator\桌面\主啊,誰人親像祢\简体\3. 耶稣爱我,我知影(台语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简体\3. 耶稣爱我,我知影(台语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Documents and Settings\Administrator\桌面\主啊,誰人親像祢\简体\3. 耶稣爱我,我知影(台语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6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